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036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036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F04115-26D1-4D82-AD0C-67AFA95ED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ea typeface="Arial Unicode MS"/>
              </a:rPr>
              <a:t>Map detailing effect of the Missouri Compromise</a:t>
            </a:r>
            <a:endParaRPr b="0" lang="en-US" sz="2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ea typeface="Arial Unicode MS"/>
              </a:rPr>
              <a:t>Map detailing effect of the Compromise of 1850</a:t>
            </a: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914400" y="4343400"/>
            <a:ext cx="5029200" cy="459432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Arial Unicode MS"/>
              </a:rPr>
              <a:t>Two days after Anthony Burns' capture on May 24, 1854, notices such as this one began to appear on Boston's streets. The notice pictured here announces a meeting at Faneuil Hall, sponsored by the Boston Vigilance Committee, where a course of action would be determined. </a:t>
            </a:r>
            <a:br>
              <a:rPr sz="1200"/>
            </a:br>
            <a:br>
              <a:rPr sz="1200"/>
            </a:br>
            <a:br>
              <a:rPr sz="1200"/>
            </a:br>
            <a:r>
              <a:rPr b="0" lang="en-US" sz="1200" spc="-1" strike="noStrike">
                <a:solidFill>
                  <a:srgbClr val="000000"/>
                </a:solidFill>
                <a:latin typeface="Times New Roman"/>
                <a:ea typeface="Arial Unicode MS"/>
              </a:rPr>
              <a:t>A MAN </a:t>
            </a:r>
            <a:br>
              <a:rPr sz="1200"/>
            </a:br>
            <a:r>
              <a:rPr b="0" lang="en-US" sz="1200" spc="-1" strike="noStrike">
                <a:solidFill>
                  <a:srgbClr val="000000"/>
                </a:solidFill>
                <a:latin typeface="Times New Roman"/>
                <a:ea typeface="Arial Unicode MS"/>
              </a:rPr>
              <a:t>KIDNAPPED!</a:t>
            </a:r>
            <a:br>
              <a:rPr sz="1200"/>
            </a:br>
            <a:br>
              <a:rPr sz="1200"/>
            </a:br>
            <a:r>
              <a:rPr b="0" lang="en-US" sz="1200" spc="-1" strike="noStrike">
                <a:solidFill>
                  <a:srgbClr val="000000"/>
                </a:solidFill>
                <a:latin typeface="Times New Roman"/>
                <a:ea typeface="Arial Unicode MS"/>
              </a:rPr>
              <a:t>A PUBLIC MEETING AT </a:t>
            </a:r>
            <a:br>
              <a:rPr sz="1200"/>
            </a:br>
            <a:r>
              <a:rPr b="0" lang="en-US" sz="1200" spc="-1" strike="noStrike">
                <a:solidFill>
                  <a:srgbClr val="000000"/>
                </a:solidFill>
                <a:latin typeface="Times New Roman"/>
                <a:ea typeface="Arial Unicode MS"/>
              </a:rPr>
              <a:t>FANEUIL HALL!</a:t>
            </a:r>
            <a:br>
              <a:rPr sz="1200"/>
            </a:br>
            <a:r>
              <a:rPr b="0" lang="en-US" sz="1200" spc="-1" strike="noStrike">
                <a:solidFill>
                  <a:srgbClr val="000000"/>
                </a:solidFill>
                <a:latin typeface="Times New Roman"/>
                <a:ea typeface="Arial Unicode MS"/>
              </a:rPr>
              <a:t>WILL BE HELD</a:t>
            </a:r>
            <a:br>
              <a:rPr sz="1200"/>
            </a:br>
            <a:r>
              <a:rPr b="0" lang="en-US" sz="1200" spc="-1" strike="noStrike">
                <a:solidFill>
                  <a:srgbClr val="000000"/>
                </a:solidFill>
                <a:latin typeface="Times New Roman"/>
                <a:ea typeface="Arial Unicode MS"/>
              </a:rPr>
              <a:t>THIS FRIDAY EVEN'G,</a:t>
            </a:r>
            <a:br>
              <a:rPr sz="1200"/>
            </a:br>
            <a:r>
              <a:rPr b="0" lang="en-US" sz="1200" spc="-1" strike="noStrike">
                <a:solidFill>
                  <a:srgbClr val="000000"/>
                </a:solidFill>
                <a:latin typeface="Times New Roman"/>
                <a:ea typeface="Arial Unicode MS"/>
              </a:rPr>
              <a:t>May 26th, at 7 o'clock,</a:t>
            </a:r>
            <a:br>
              <a:rPr sz="1200"/>
            </a:br>
            <a:r>
              <a:rPr b="0" lang="en-US" sz="1200" spc="-1" strike="noStrike">
                <a:solidFill>
                  <a:srgbClr val="000000"/>
                </a:solidFill>
                <a:latin typeface="Times New Roman"/>
                <a:ea typeface="Arial Unicode MS"/>
              </a:rPr>
              <a:t>To secure justice for A MAN CLAIMED AS A SLAVE by a</a:t>
            </a:r>
            <a:br>
              <a:rPr sz="1200"/>
            </a:br>
            <a:r>
              <a:rPr b="0" lang="en-US" sz="1200" spc="-1" strike="noStrike">
                <a:solidFill>
                  <a:srgbClr val="000000"/>
                </a:solidFill>
                <a:latin typeface="Times New Roman"/>
                <a:ea typeface="Arial Unicode MS"/>
              </a:rPr>
              <a:t>VIRGINIA</a:t>
            </a:r>
            <a:br>
              <a:rPr sz="1200"/>
            </a:br>
            <a:r>
              <a:rPr b="0" lang="en-US" sz="1200" spc="-1" strike="noStrike">
                <a:solidFill>
                  <a:srgbClr val="000000"/>
                </a:solidFill>
                <a:latin typeface="Times New Roman"/>
                <a:ea typeface="Arial Unicode MS"/>
              </a:rPr>
              <a:t>KIDNAPPER!</a:t>
            </a:r>
            <a:br>
              <a:rPr sz="1200"/>
            </a:br>
            <a:br>
              <a:rPr sz="1200"/>
            </a:br>
            <a:r>
              <a:rPr b="0" lang="en-US" sz="1200" spc="-1" strike="noStrike">
                <a:solidFill>
                  <a:srgbClr val="000000"/>
                </a:solidFill>
                <a:latin typeface="Times New Roman"/>
                <a:ea typeface="Arial Unicode MS"/>
              </a:rPr>
              <a:t>And NOW IMPRISONED IN BOSTON COURT HOUSE, in </a:t>
            </a:r>
            <a:br>
              <a:rPr sz="1200"/>
            </a:br>
            <a:r>
              <a:rPr b="0" lang="en-US" sz="1200" spc="-1" strike="noStrike">
                <a:solidFill>
                  <a:srgbClr val="000000"/>
                </a:solidFill>
                <a:latin typeface="Times New Roman"/>
                <a:ea typeface="Arial Unicode MS"/>
              </a:rPr>
              <a:t>defiance of the Laws of Massachusetts, Shall be plunged into the Hell of Viginia Slavery by a Massachusetts Judge of Probate!</a:t>
            </a:r>
            <a:br>
              <a:rPr sz="1200"/>
            </a:br>
            <a:br>
              <a:rPr sz="1200"/>
            </a:br>
            <a:r>
              <a:rPr b="0" lang="en-US" sz="1200" spc="-1" strike="noStrike">
                <a:solidFill>
                  <a:srgbClr val="000000"/>
                </a:solidFill>
                <a:latin typeface="Times New Roman"/>
                <a:ea typeface="Arial Unicode MS"/>
              </a:rPr>
              <a:t>BOSTON, May 26, 18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356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Arial Unicode MS"/>
              </a:rPr>
              <a:t>In compliance with the recently enacted Fugitive Slave Act, Anthony Burns was ordered by the court on June 2, 1854 to be returned to slavery in Virginia. An estimated 50,000 outraged citizens lined the streets of Boston as an army of soldiers escorted Burns to the waterfront. </a:t>
            </a:r>
            <a:br>
              <a:rPr sz="2000"/>
            </a:br>
            <a:br>
              <a:rPr sz="2000"/>
            </a:br>
            <a:r>
              <a:rPr b="0" lang="en-US" sz="2000" spc="-1" strike="noStrike">
                <a:solidFill>
                  <a:srgbClr val="000000"/>
                </a:solidFill>
                <a:latin typeface="Times New Roman"/>
                <a:ea typeface="Arial Unicode MS"/>
              </a:rPr>
              <a:t>This engraving depicts the scene of Burns' march. Men in a window, along with the angry mob outside and on top of the surrounding buildings, shout out "Kidnappers!" </a:t>
            </a:r>
            <a:br>
              <a:rPr sz="2000"/>
            </a:b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ea typeface="Arial Unicode MS"/>
              </a:rPr>
              <a:t>Map detailing effect of the Kansas-Nebraska Act</a:t>
            </a:r>
            <a:endParaRPr b="0" lang="en-US" sz="2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Arial Unicode MS"/>
              </a:rPr>
              <a:t>This photograph of John Brown was taken in 1856 while the abolitionist was in Kansas, the same year he led an attack on a settlement along the Pottawatomie River in which five unarmed, proslavery settlers were seized and brutally murdered. Although Brown could have killed as many as nine men in the attack, he settled on five -- the same number of antislavery men who had recently died at the hands of southern settlers. The retaliation, Brown claimed, was to create "a restraining fear" among the aggressive proslavery advocates.</a:t>
            </a:r>
            <a:br>
              <a:rPr sz="1200"/>
            </a:br>
            <a:br>
              <a:rPr sz="1200"/>
            </a:br>
            <a:r>
              <a:rPr b="0" lang="en-US" sz="1200" spc="-1" strike="noStrike">
                <a:solidFill>
                  <a:srgbClr val="000000"/>
                </a:solidFill>
                <a:latin typeface="Times New Roman"/>
                <a:ea typeface="Arial Unicode MS"/>
              </a:rPr>
              <a:t>By the end of the year Brown would become the most renowned individual living in "Bleeding Kansa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ea typeface="Arial Unicode MS"/>
              </a:rPr>
              <a:t>Assault on Senator Sumner, 1856.</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Arial Unicode MS"/>
              </a:rPr>
              <a:t>Dred Scot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737B1-1B6D-4919-B85C-C1B3EB248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CE77F-7574-4383-BA6F-13E3306E2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E3534-A2B9-44C7-8B68-E3B252E8A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7DFA4-EA14-433E-9882-EF0EDA489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29263-5A7F-421D-AE7D-48A4DEB10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B75E3-D4F1-4E45-86E3-6AB0A794D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35670-D951-4A65-9B72-651758084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7EA79-E4C1-44B3-8D6D-CD9EF335E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CAB51-D871-4D65-98CF-1B42E3F03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EA8E2-222A-4491-B286-2C03FC241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03AB8-B3CD-4CA1-BC07-E21FFFF40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8CDB5-BC91-467D-97C3-9FDA3727D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7069CF-6526-41CA-8C6B-B517986D15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890640"/>
            <a:ext cx="9220320" cy="5484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450720"/>
            <a:ext cx="9144000" cy="5956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76320" y="685800"/>
            <a:ext cx="8915400" cy="5292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471760" y="-47520"/>
            <a:ext cx="4200480" cy="6953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523880" y="-47520"/>
            <a:ext cx="6096240" cy="6953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507960"/>
            <a:ext cx="9144000" cy="5843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371600" y="-685800"/>
            <a:ext cx="6613560" cy="7543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295280" y="152280"/>
            <a:ext cx="7086600" cy="6554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563840" y="152280"/>
            <a:ext cx="5817960" cy="6629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8T00:16:27Z</dcterms:created>
  <dc:creator>csstaff</dc:creator>
  <dc:description/>
  <dc:language>en-US</dc:language>
  <cp:lastModifiedBy>Dominic Lambek</cp:lastModifiedBy>
  <dcterms:modified xsi:type="dcterms:W3CDTF">2009-01-29T13:19:59Z</dcterms:modified>
  <cp:revision>4</cp:revision>
  <dc:subject/>
  <dc:title>PowerPoint Presentation</dc:title>
</cp:coreProperties>
</file>